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692-BA82-4D6B-BBD2-65D21CFE5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015-334E-4AE9-AF38-9D330E555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71B-10C6-4A5A-BB7D-E946E5E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D1A-90B6-4AC6-AAEC-171BE0D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58F-4D25-46A0-9138-98EB0028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59E-91B5-4A55-84AA-974E4A41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90-DF72-4A9C-AEF3-DFA513A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2D-F425-42A1-8E04-FBF29D26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1AD-4C68-41B8-88DE-5F5A3E2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801-9E17-4D9B-A2F7-8B8D5B2B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B0F-514B-4CF4-A111-A15F335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4E9-68C3-49CF-A2FE-9ED0C94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EDE-6626-437E-9899-204B746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293-F0AB-47FC-AF92-A250B52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ACC6-4418-4CE4-ADA6-DB16AC5A5B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убличный доклад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 2009-2010 учебный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У СОШ № 6 им. Ц.Л. Ку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1"/>
          <p:cNvGraphicFramePr/>
          <p:nvPr/>
        </p:nvGraphicFramePr>
        <p:xfrm>
          <a:off x="304920" y="293760"/>
          <a:ext cx="8610480" cy="62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3760"/>
                    <a:ext cx="861048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709C-5C83-4A0C-9F37-A9379D60E2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71320" y="42876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0 % успеваемость– 26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учшие результаты показа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А» - Кл. рук. Пименова С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«А» – Кл. рук. Бойко Н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«В» - Кл. рук. Варельджан Н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«А» - Кл.рук. Шинкаренко И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«Г» - Кл.рук. Налеткина Н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«А» - Кл. рук. Черкасова Т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А» - Кл. рук. Старченко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85840" y="1428840"/>
            <a:ext cx="40417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и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ли учащие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6160" y="2571840"/>
            <a:ext cx="45720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«Б» - Кл. рук. Букарева С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А» - Кл. рук. Ефанова Т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«Б» - Кл. рук. Радько А.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«А» - Кл. рук Акопова Н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Б» - Кл. рук. Восканян С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936-C6D4-4040-94BF-0FDF3C7A95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личество «5», «4», «3», «2» по обязательным экзаменам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сравнительная таблица)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"/>
          <p:cNvPicPr/>
          <p:nvPr/>
        </p:nvPicPr>
        <p:blipFill>
          <a:blip r:embed="rId1"/>
          <a:stretch/>
        </p:blipFill>
        <p:spPr>
          <a:xfrm>
            <a:off x="426960" y="1427040"/>
            <a:ext cx="8431200" cy="493092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6D7-D980-429F-BE35-3B50C02A23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ивные курсы, разработанные учителям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-2010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3568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е вопросы математик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 – Балакина Е.Н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рева С.Н., Хасапетян Н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практику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 – Балакина Е.Н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к Г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в теста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 – Радько А.В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иченко Н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общатьс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 ч – Черкасова Т.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производство на компьютер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 – Полатовская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грамот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Полатовская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Ходаковская М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 международн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ч. - Лукьянова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в професс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Акопова Н.С., Ефанова Т.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религий, свободомыслия и атеизм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Ефанова Т.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государственных символов Росс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 - 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. Семейный бюджет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9D57-83C6-45BB-9619-E4B8445CE7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</a:t>
            </a:r>
            <a:br>
              <a:rPr sz="6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0 учебный г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9-х классов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2281-2FC7-4C34-8809-4652B1F218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27D-87CF-4A64-B0FB-1B140CE1BA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о экзаменов, сдаваемых ТЭК и ШЭ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000080"/>
          <a:ext cx="8286840" cy="5199120"/>
        </p:xfrm>
        <a:graphic>
          <a:graphicData uri="http://schemas.openxmlformats.org/drawingml/2006/table">
            <a:tbl>
              <a:tblPr/>
              <a:tblGrid>
                <a:gridCol w="2697120"/>
                <a:gridCol w="2793960"/>
                <a:gridCol w="2795760"/>
              </a:tblGrid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кзаменов, сдаваемых ТЭ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кзаменов, сдаваемых ШЭ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алгебра, русский язык, геометрия, биология, география, физика, химия, обществозн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(черчение, ОБЖ, история России, физ-ра, английский язык, химия, обществозн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алгебра, русский язык, физика, химия, география, обществознание, английский язы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ОБЖ, физика, география, обществознание, физ-ра, черчение, английский язык, хи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алгебра, русский язык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Росссии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, география, физика, ОБЖ, физ-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(ОБЖ, физика, география, обществознание, физ-ра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нглийский язык, химия,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стория России,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2A4F-3EE2-4B4D-BBDC-C05601F063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Диаграмма 4" descr=""/>
          <p:cNvPicPr/>
          <p:nvPr/>
        </p:nvPicPr>
        <p:blipFill>
          <a:blip r:embed="rId1"/>
          <a:stretch/>
        </p:blipFill>
        <p:spPr>
          <a:xfrm>
            <a:off x="781200" y="493560"/>
            <a:ext cx="8008920" cy="287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785880" y="3714840"/>
          <a:ext cx="7929360" cy="250020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аттес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го образ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Х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697-7A87-47C7-A715-C6DB71AFA9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1377-036F-44C6-BE84-DE88A5B33F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Диаграмма 4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1565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альный, максимальный и средний балл сдачи экзаменов в форме и по материалам Е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A63-392B-45F1-BAF5-F5DD9BD167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7120" y="1285920"/>
          <a:ext cx="8429760" cy="4525920"/>
        </p:xfrm>
        <a:graphic>
          <a:graphicData uri="http://schemas.openxmlformats.org/drawingml/2006/table">
            <a:tbl>
              <a:tblPr/>
              <a:tblGrid>
                <a:gridCol w="338040"/>
                <a:gridCol w="1762200"/>
                <a:gridCol w="1265400"/>
                <a:gridCol w="1935000"/>
                <a:gridCol w="1127160"/>
                <a:gridCol w="1138320"/>
                <a:gridCol w="8636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ыпускников, сдававших ЕГЭ по предм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 , установленное Рособрнадз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Рамка"/>
          <p:cNvPicPr/>
          <p:nvPr/>
        </p:nvPicPr>
        <p:blipFill>
          <a:blip r:embed="rId1"/>
          <a:stretch/>
        </p:blipFill>
        <p:spPr>
          <a:xfrm>
            <a:off x="826920" y="162864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24784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/максимальное количество баллов, набранных уча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"/>
          <p:cNvPicPr/>
          <p:nvPr/>
        </p:nvPicPr>
        <p:blipFill>
          <a:blip r:embed="rId1"/>
          <a:stretch/>
        </p:blipFill>
        <p:spPr>
          <a:xfrm>
            <a:off x="500040" y="1639800"/>
            <a:ext cx="8290080" cy="341964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F18-693F-4882-AC0A-DC90A07FB4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8C5-5601-4AC7-8293-F6B758E965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6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24256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928800" y="3000240"/>
          <a:ext cx="7572240" cy="307188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олотых меда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ребряных  меда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676520" y="228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о всероссийских предметных                    викторинах -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71600"/>
          <a:ext cx="8001000" cy="1371600"/>
        </p:xfrm>
        <a:graphic>
          <a:graphicData uri="http://schemas.openxmlformats.org/drawingml/2006/table">
            <a:tbl>
              <a:tblPr/>
              <a:tblGrid>
                <a:gridCol w="2000520"/>
                <a:gridCol w="1998360"/>
                <a:gridCol w="2001960"/>
                <a:gridCol w="200016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3612240" y="-31320"/>
            <a:ext cx="19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Диаграмма 6" descr=""/>
          <p:cNvPicPr/>
          <p:nvPr/>
        </p:nvPicPr>
        <p:blipFill>
          <a:blip r:embed="rId1"/>
          <a:stretch/>
        </p:blipFill>
        <p:spPr>
          <a:xfrm>
            <a:off x="530280" y="3041640"/>
            <a:ext cx="816300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505320" y="228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762120"/>
          <a:ext cx="8610480" cy="5941800"/>
        </p:xfrm>
        <a:graphic>
          <a:graphicData uri="http://schemas.openxmlformats.org/drawingml/2006/table">
            <a:tbl>
              <a:tblPr/>
              <a:tblGrid>
                <a:gridCol w="1785960"/>
                <a:gridCol w="1787400"/>
                <a:gridCol w="1668600"/>
                <a:gridCol w="1684080"/>
                <a:gridCol w="1684440"/>
              </a:tblGrid>
              <a:tr h="312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в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rowSpan="6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енгур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чек 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наковский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ц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ян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чникова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глийский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емадинова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н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чникова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rowSpan="8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имова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итиш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к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енгур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ко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яш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башьян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сова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ниева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5"/>
          <p:cNvSpPr/>
          <p:nvPr/>
        </p:nvSpPr>
        <p:spPr>
          <a:xfrm>
            <a:off x="2133720" y="457200"/>
            <a:ext cx="4495680" cy="1447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лектив с устремл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 качественному образов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 rot="561600">
            <a:off x="-101520" y="1523880"/>
            <a:ext cx="295092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 выпускник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рнувш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одную шко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 rot="20554200">
            <a:off x="5922720" y="1111320"/>
            <a:ext cx="3203280" cy="23875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роки, вст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здни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динен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виз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Спорт, творчеств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ухов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 rot="21036600">
            <a:off x="80640" y="3960360"/>
            <a:ext cx="2879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и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лой род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Куба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763640" y="5516640"/>
            <a:ext cx="4608720" cy="115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а, где говорят, думаю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ют и танц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 rot="700200">
            <a:off x="6017760" y="4274640"/>
            <a:ext cx="3275280" cy="18226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а, где берегу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уников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ад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DCIM\100SSCAM\SDC11291.JPG"/>
          <p:cNvPicPr/>
          <p:nvPr/>
        </p:nvPicPr>
        <p:blipFill>
          <a:blip r:embed="rId1"/>
          <a:stretch/>
        </p:blipFill>
        <p:spPr>
          <a:xfrm>
            <a:off x="2719440" y="2432160"/>
            <a:ext cx="332748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7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7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7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700"/>
                            </p:stCondLst>
                            <p:childTnLst>
                              <p:par>
                                <p:cTn id="2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Рамка"/>
          <p:cNvPicPr/>
          <p:nvPr/>
        </p:nvPicPr>
        <p:blipFill>
          <a:blip r:embed="rId1"/>
          <a:stretch/>
        </p:blipFill>
        <p:spPr>
          <a:xfrm>
            <a:off x="826920" y="162864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82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Методическая работа школ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565000"/>
            <a:ext cx="8540640" cy="314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anchor="t">
            <a:normAutofit fontScale="95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3300"/>
                </a:solidFill>
                <a:latin typeface="Calibri"/>
              </a:rPr>
              <a:t>« </a:t>
            </a: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Дифференциация и гуманизация образовательного процесса – залог повышения качества образования»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0"/>
          <p:cNvSpPr/>
          <p:nvPr/>
        </p:nvSpPr>
        <p:spPr>
          <a:xfrm>
            <a:off x="250920" y="1022400"/>
            <a:ext cx="8540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2005 года коллектив школы работает над проблем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758520"/>
            <a:ext cx="8626320" cy="5406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ff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работы над проблемой школы теоретические вопросы были изучены через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едагогические сове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сихолого-педагогические семина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боту школьного методического со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5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 педагогических советах были рассмотрены следующие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-757080" y="429264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68360" y="1484280"/>
            <a:ext cx="8136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бще-учебные умения и навыки – важнейшее условие развития познавательных способностей учащихся и активизация учения в системе личностно – 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ние условия для самореализации творческих способ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спитательная система школы – как условие социализации личности ученика. Нравственный закон внутр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15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 педагогических советах были рассмотрены следующие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-757080" y="429264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143000"/>
            <a:ext cx="8136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бще-учебные умения и навыки – важнейшее условие развития познавательных способностей учащихся и активизация учения в системе личностно – 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ние условия для самореализации творческих способ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спитательная система школы – как условие социализации личности ученика. Нравственный закон внутр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1116000" y="5229360"/>
            <a:ext cx="66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Нас 811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52" name="Picture 9" descr="iшкола 019"/>
          <p:cNvPicPr/>
          <p:nvPr/>
        </p:nvPicPr>
        <p:blipFill>
          <a:blip r:embed="rId3"/>
          <a:stretch/>
        </p:blipFill>
        <p:spPr>
          <a:xfrm rot="20195400">
            <a:off x="593280" y="1036440"/>
            <a:ext cx="4089600" cy="30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iшкола 020"/>
          <p:cNvPicPr/>
          <p:nvPr/>
        </p:nvPicPr>
        <p:blipFill>
          <a:blip r:embed="rId4"/>
          <a:stretch/>
        </p:blipFill>
        <p:spPr>
          <a:xfrm rot="828600">
            <a:off x="4716360" y="1450440"/>
            <a:ext cx="417204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83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и в системе личностно – ориент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оретические основы личностно – ориент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Формы организации урока в старших клас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Уровневая дифференциация в обучении. Коррекция деятельности учителя в условиях уровневой дифферен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учебных цик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модуль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дифференц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Метод проекта в системе личностно – ориент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Индивидуализация обучения и психолого-педагогическая поддержка одаренных и слабоуспев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На заседаниях МС и МО </a:t>
            </a:r>
            <a:br>
              <a:rPr sz="3600"/>
            </a:b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рассматривались следующие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Требования к современному уроку. Внедрение в учебный процесс новых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овременный урок с позиции личностно-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тимулирование познавательной деятель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Применение личностно-ориентирован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Исследовательская культура учащего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Методика обобщения и распространения передового педагогического оп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труктура уроков развивающего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Рамка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51076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Воспита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В школе рабо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социально-психологическая реабилитационная служ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В состав службы входит психолого-медико-педагогический консилиум и Совет профилактики предупреждения правонарушений и преступлений в детско-подростков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26920" y="620640"/>
            <a:ext cx="7777440" cy="5455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Цель службы 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оказание  комплексной социально-психолого-педагогической и логопедической помощи и поддержки детям и подросткам с ограниченными возможностями здоровья и различными видами дезадаптации, а именно:  с нарушениями в речевой, когнитивной, психомоторной, соматической, эмоционально-личностной сфере и пове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826920" y="1125360"/>
            <a:ext cx="2737080" cy="216000"/>
          </a:xfrm>
          <a:prstGeom prst="pie">
            <a:avLst/>
          </a:pr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67652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ость учащихся МОУ СОШ № 6 им. Ц.Л.Ку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ских кружках допобразования в 201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rcRect l="911" t="1698" r="911" b="3387"/>
          <a:stretch/>
        </p:blipFill>
        <p:spPr>
          <a:xfrm>
            <a:off x="304920" y="1523880"/>
            <a:ext cx="8605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927" t="2235" r="1850" b="3730"/>
          <a:stretch/>
        </p:blipFill>
        <p:spPr>
          <a:xfrm>
            <a:off x="304920" y="1371600"/>
            <a:ext cx="8534160" cy="5121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1240920" y="152280"/>
            <a:ext cx="70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занятости учащихся МОУ СОШ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неуроч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rcRect l="910" t="1481" r="1668" b="2218"/>
          <a:stretch/>
        </p:blipFill>
        <p:spPr>
          <a:xfrm>
            <a:off x="304920" y="1371600"/>
            <a:ext cx="8529480" cy="5181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60948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ость учащихся в школьных кружках и спортивных сек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793116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школе действует детская организация «Куниковец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2743200" y="1523880"/>
            <a:ext cx="33526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Общешко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514600" y="2209680"/>
            <a:ext cx="3886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Совет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Уча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5-8 классов                                               9-11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6"/>
          <p:cNvSpPr/>
          <p:nvPr/>
        </p:nvSpPr>
        <p:spPr>
          <a:xfrm>
            <a:off x="228600" y="3276720"/>
            <a:ext cx="198108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портивный сектор клуб «ОЛИМП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7"/>
          <p:cNvSpPr/>
          <p:nvPr/>
        </p:nvSpPr>
        <p:spPr>
          <a:xfrm>
            <a:off x="2286000" y="327672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триотиче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8"/>
          <p:cNvSpPr/>
          <p:nvPr/>
        </p:nvSpPr>
        <p:spPr>
          <a:xfrm>
            <a:off x="4572000" y="3276720"/>
            <a:ext cx="205740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ультмас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6781680" y="320040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Штаб труда и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2971800" y="4343400"/>
            <a:ext cx="304812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Учебная коми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1981080" y="4876920"/>
            <a:ext cx="49532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лассные учениче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2590920" y="5410080"/>
            <a:ext cx="4038480" cy="381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росты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13"/>
          <p:cNvSpPr/>
          <p:nvPr/>
        </p:nvSpPr>
        <p:spPr>
          <a:xfrm>
            <a:off x="228600" y="60199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портивн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4"/>
          <p:cNvSpPr/>
          <p:nvPr/>
        </p:nvSpPr>
        <p:spPr>
          <a:xfrm>
            <a:off x="2057400" y="6019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триотиче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5"/>
          <p:cNvSpPr/>
          <p:nvPr/>
        </p:nvSpPr>
        <p:spPr>
          <a:xfrm>
            <a:off x="3886200" y="60199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ультмас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6"/>
          <p:cNvSpPr/>
          <p:nvPr/>
        </p:nvSpPr>
        <p:spPr>
          <a:xfrm>
            <a:off x="5562720" y="60199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Штаб труда и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7"/>
          <p:cNvSpPr/>
          <p:nvPr/>
        </p:nvSpPr>
        <p:spPr>
          <a:xfrm>
            <a:off x="7391520" y="6019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сс-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Прямая со стрелкой 25"/>
          <p:cNvCxnSpPr/>
          <p:nvPr/>
        </p:nvCxnSpPr>
        <p:spPr>
          <a:xfrm flipH="1">
            <a:off x="4341600" y="1982520"/>
            <a:ext cx="3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Прямая со стрелкой 31"/>
          <p:cNvCxnSpPr/>
          <p:nvPr/>
        </p:nvCxnSpPr>
        <p:spPr>
          <a:xfrm flipH="1">
            <a:off x="4494960" y="2742840"/>
            <a:ext cx="252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34"/>
          <p:cNvCxnSpPr>
            <a:endCxn id="167" idx="0"/>
          </p:cNvCxnSpPr>
          <p:nvPr/>
        </p:nvCxnSpPr>
        <p:spPr>
          <a:xfrm>
            <a:off x="4649760" y="5790960"/>
            <a:ext cx="350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>
            <a:endCxn id="165" idx="0"/>
          </p:cNvCxnSpPr>
          <p:nvPr/>
        </p:nvCxnSpPr>
        <p:spPr>
          <a:xfrm flipH="1">
            <a:off x="4609800" y="5868720"/>
            <a:ext cx="40320" cy="151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45"/>
          <p:cNvCxnSpPr>
            <a:endCxn id="163" idx="0"/>
          </p:cNvCxnSpPr>
          <p:nvPr/>
        </p:nvCxnSpPr>
        <p:spPr>
          <a:xfrm flipH="1">
            <a:off x="1028520" y="5790240"/>
            <a:ext cx="362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48"/>
          <p:cNvCxnSpPr>
            <a:endCxn id="164" idx="0"/>
          </p:cNvCxnSpPr>
          <p:nvPr/>
        </p:nvCxnSpPr>
        <p:spPr>
          <a:xfrm flipH="1">
            <a:off x="2819160" y="5790240"/>
            <a:ext cx="183096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Прямая со стрелкой 50"/>
          <p:cNvCxnSpPr>
            <a:endCxn id="166" idx="0"/>
          </p:cNvCxnSpPr>
          <p:nvPr/>
        </p:nvCxnSpPr>
        <p:spPr>
          <a:xfrm>
            <a:off x="4649760" y="5790960"/>
            <a:ext cx="1713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52"/>
          <p:cNvCxnSpPr>
            <a:endCxn id="162" idx="0"/>
          </p:cNvCxnSpPr>
          <p:nvPr/>
        </p:nvCxnSpPr>
        <p:spPr>
          <a:xfrm flipH="1">
            <a:off x="4609800" y="5257440"/>
            <a:ext cx="4032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Прямая соединительная линия 65"/>
          <p:cNvSpPr/>
          <p:nvPr/>
        </p:nvSpPr>
        <p:spPr>
          <a:xfrm>
            <a:off x="1219320" y="3048120"/>
            <a:ext cx="6476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69"/>
          <p:cNvCxnSpPr/>
          <p:nvPr/>
        </p:nvCxnSpPr>
        <p:spPr>
          <a:xfrm flipH="1">
            <a:off x="1066320" y="3047760"/>
            <a:ext cx="1548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Прямая со стрелкой 71"/>
          <p:cNvCxnSpPr>
            <a:endCxn id="157" idx="0"/>
          </p:cNvCxnSpPr>
          <p:nvPr/>
        </p:nvCxnSpPr>
        <p:spPr>
          <a:xfrm>
            <a:off x="3278160" y="3047760"/>
            <a:ext cx="37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Прямая со стрелкой 73"/>
          <p:cNvCxnSpPr>
            <a:endCxn id="158" idx="0"/>
          </p:cNvCxnSpPr>
          <p:nvPr/>
        </p:nvCxnSpPr>
        <p:spPr>
          <a:xfrm>
            <a:off x="5564160" y="3047760"/>
            <a:ext cx="37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Прямая со стрелкой 75"/>
          <p:cNvCxnSpPr>
            <a:endCxn id="159" idx="0"/>
          </p:cNvCxnSpPr>
          <p:nvPr/>
        </p:nvCxnSpPr>
        <p:spPr>
          <a:xfrm>
            <a:off x="7696800" y="3047760"/>
            <a:ext cx="1134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81"/>
          <p:cNvSpPr/>
          <p:nvPr/>
        </p:nvSpPr>
        <p:spPr>
          <a:xfrm>
            <a:off x="13716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ученическ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й общественной организации «Куникове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7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200"/>
                            </p:stCondLst>
                            <p:childTnLst>
                              <p:par>
                                <p:cTn id="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Diagram 30"/>
          <p:cNvGrpSpPr/>
          <p:nvPr/>
        </p:nvGrpSpPr>
        <p:grpSpPr>
          <a:xfrm>
            <a:off x="617760" y="129600"/>
            <a:ext cx="7992720" cy="3756240"/>
            <a:chOff x="617760" y="129600"/>
            <a:chExt cx="7992720" cy="3756240"/>
          </a:xfrm>
        </p:grpSpPr>
        <p:sp>
          <p:nvSpPr>
            <p:cNvPr id="183" name="Line 32"/>
            <p:cNvSpPr/>
            <p:nvPr/>
          </p:nvSpPr>
          <p:spPr>
            <a:xfrm>
              <a:off x="4511520" y="3130560"/>
              <a:ext cx="72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3"/>
            <p:cNvSpPr/>
            <p:nvPr/>
          </p:nvSpPr>
          <p:spPr>
            <a:xfrm flipH="1" flipV="1">
              <a:off x="3136320" y="1721160"/>
              <a:ext cx="685800" cy="43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4"/>
            <p:cNvSpPr/>
            <p:nvPr/>
          </p:nvSpPr>
          <p:spPr>
            <a:xfrm>
              <a:off x="1472760" y="66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Calibri"/>
                </a:rPr>
                <a:t>Подводит итоги школьной деятель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5"/>
            <p:cNvSpPr/>
            <p:nvPr/>
          </p:nvSpPr>
          <p:spPr>
            <a:xfrm flipH="1">
              <a:off x="2567520" y="2590200"/>
              <a:ext cx="9705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56"/>
            <p:cNvSpPr/>
            <p:nvPr/>
          </p:nvSpPr>
          <p:spPr>
            <a:xfrm>
              <a:off x="617760" y="1975320"/>
              <a:ext cx="194652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Calibri"/>
                </a:rPr>
                <a:t>Планирует деятельность ученического коллекти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7"/>
            <p:cNvSpPr/>
            <p:nvPr/>
          </p:nvSpPr>
          <p:spPr>
            <a:xfrm>
              <a:off x="5485320" y="2590200"/>
              <a:ext cx="97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8"/>
            <p:cNvSpPr/>
            <p:nvPr/>
          </p:nvSpPr>
          <p:spPr>
            <a:xfrm>
              <a:off x="6219720" y="1974600"/>
              <a:ext cx="2390760" cy="158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аёт поручения классным коллективам и школьным объединениям, заслушивает отчеты о выполнении поручений сове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59"/>
            <p:cNvSpPr/>
            <p:nvPr/>
          </p:nvSpPr>
          <p:spPr>
            <a:xfrm flipV="1">
              <a:off x="5199480" y="1720080"/>
              <a:ext cx="687600" cy="43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60"/>
            <p:cNvSpPr/>
            <p:nvPr/>
          </p:nvSpPr>
          <p:spPr>
            <a:xfrm>
              <a:off x="5602680" y="66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Обсуждает важные вопросы для всей жизнедеятель ности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1"/>
            <p:cNvSpPr/>
            <p:nvPr/>
          </p:nvSpPr>
          <p:spPr>
            <a:xfrm flipV="1">
              <a:off x="4511520" y="1359720"/>
              <a:ext cx="0" cy="61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62"/>
            <p:cNvSpPr/>
            <p:nvPr/>
          </p:nvSpPr>
          <p:spPr>
            <a:xfrm>
              <a:off x="3538080" y="12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Утверждает документы, регламентирует жизнедеятель ность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3"/>
            <p:cNvSpPr/>
            <p:nvPr/>
          </p:nvSpPr>
          <p:spPr>
            <a:xfrm>
              <a:off x="3316320" y="1834920"/>
              <a:ext cx="2390760" cy="151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Ученический сов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шко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3"/>
          <p:cNvSpPr/>
          <p:nvPr/>
        </p:nvSpPr>
        <p:spPr>
          <a:xfrm>
            <a:off x="2971800" y="3962520"/>
            <a:ext cx="3124080" cy="761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ЛИЗ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4"/>
          <p:cNvSpPr/>
          <p:nvPr/>
        </p:nvSpPr>
        <p:spPr>
          <a:xfrm>
            <a:off x="45720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ительная работа ради достижения конкрет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5"/>
          <p:cNvSpPr/>
          <p:nvPr/>
        </p:nvSpPr>
        <p:spPr>
          <a:xfrm>
            <a:off x="251460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ение мнений в результате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8"/>
          <p:cNvSpPr/>
          <p:nvPr/>
        </p:nvSpPr>
        <p:spPr>
          <a:xfrm>
            <a:off x="464832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ение мнений в процессе создания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9"/>
          <p:cNvSpPr/>
          <p:nvPr/>
        </p:nvSpPr>
        <p:spPr>
          <a:xfrm>
            <a:off x="670572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4"/>
          <p:cNvSpPr/>
          <p:nvPr/>
        </p:nvSpPr>
        <p:spPr>
          <a:xfrm flipH="1">
            <a:off x="1676160" y="4343400"/>
            <a:ext cx="11430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6"/>
          <p:cNvSpPr/>
          <p:nvPr/>
        </p:nvSpPr>
        <p:spPr>
          <a:xfrm>
            <a:off x="6324480" y="4343400"/>
            <a:ext cx="11430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H="1">
            <a:off x="3808080" y="4802040"/>
            <a:ext cx="324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0"/>
          <p:cNvSpPr/>
          <p:nvPr/>
        </p:nvSpPr>
        <p:spPr>
          <a:xfrm flipH="1">
            <a:off x="5256360" y="4726080"/>
            <a:ext cx="288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ее количество учащихся по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A0D0-1E23-4DF5-B3BF-36D349C290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8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B7D7-12AF-4F54-B5CD-F10963BFDD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571680" y="770040"/>
            <a:ext cx="7594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на 2010-2011 учебный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качества образования. Выпускники нашей школы все должны успешно пройти итоговую аттестацию и  получить аттес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качества работы Ш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с одаренными детьми  через более серьезный и продуманный подход  в организации работы НО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никове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нейшая работа по предпрофильной подготовке и профильн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по успешной аттестации педагогических и руководящ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Компьютер\Рабочий стол\45 лет школе\IMG_9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E:\DCIM\100SSCAM\SDC11291.JPG"/>
          <p:cNvPicPr/>
          <p:nvPr/>
        </p:nvPicPr>
        <p:blipFill>
          <a:blip r:embed="rId2"/>
          <a:stretch/>
        </p:blipFill>
        <p:spPr>
          <a:xfrm>
            <a:off x="5761080" y="5102280"/>
            <a:ext cx="340668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им образом движение учащихся по МОУ СОШ № 6 им. Ц,Л. Куник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3 года составл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EC59-76B9-4B45-A74D-E27B27DCDB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571760"/>
          <a:ext cx="8286480" cy="4500360"/>
        </p:xfrm>
        <a:graphic>
          <a:graphicData uri="http://schemas.openxmlformats.org/drawingml/2006/table">
            <a:tbl>
              <a:tblPr/>
              <a:tblGrid>
                <a:gridCol w="1477800"/>
                <a:gridCol w="2311560"/>
                <a:gridCol w="2124000"/>
                <a:gridCol w="2373120"/>
              </a:tblGrid>
              <a:tr h="18334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 уч.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уч.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 уч.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вижение учащихся по МОУ СОШ № 6 за 3 го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оличество уч-ся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2007-2008 2008-2009, 2009-2010 учебный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9843-4CC8-4A52-980F-FC6C44DF0E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351-A519-497C-8FE8-64AF97619C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учащихся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09-2010 учебный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13" descr=""/>
          <p:cNvPicPr/>
          <p:nvPr/>
        </p:nvPicPr>
        <p:blipFill>
          <a:blip r:embed="rId1"/>
          <a:stretch/>
        </p:blipFill>
        <p:spPr>
          <a:xfrm>
            <a:off x="566640" y="1584360"/>
            <a:ext cx="8083800" cy="470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ижение по школам города и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бы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2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5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7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0 –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1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ШИ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бы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2 –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3 –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4 –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5 –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ш № 8 –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0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1 –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Ш № 1 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8E5-FA52-44A5-B226-1C260DDB12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Аттестац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928520"/>
            <a:ext cx="85438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УЮ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583 учащихс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-2 классы не аттестуютс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«ОТЛИЧНО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ЧИ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35 учащих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,3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«4» и «5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17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37,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овлетворитель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учаются –404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-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69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спевающих  - 0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125B-AD98-4B8F-91EB-51B06360A4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5</cp:lastModifiedBy>
  <dcterms:modified xsi:type="dcterms:W3CDTF">2011-02-10T05:37:23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